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855E-469F-457B-99F8-96AF11A1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F5B4-BF22-4ADB-B6B7-53AC84FB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9BEE-92A2-476A-8589-064D5C66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E542-E0CB-488E-88EF-F0D0A129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0AA4-E032-4081-B297-F8BF59F1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7AF8-8BEA-42EA-9BED-E750E470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45E3-A53A-4EB5-BE8E-FD5FF386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C3C6-57B8-4962-940E-652102E5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E2BB-4D21-40E0-9A89-C19B9661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7965-13E4-41C9-9C8F-A0FC6D50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3798-739D-42D5-9880-63C28538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B8E3-5ACA-41F0-AAE8-D0A19857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886E-3072-4B41-BA5A-8201B579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0BCB-9A76-4249-9A4B-637B5D9F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DAE6-FA79-4AF6-870E-23CDD2B3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0C8D-0AF5-4918-BAF1-BE3E4FB1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0482-DC16-44D6-B691-A2994F6D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903636-69DB-4BAB-AB67-A045C16E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11A543-2A57-4A6D-9B93-576E17DE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ED5030-2FCA-4D63-93C1-7AD12D30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B55BA-315F-40FE-A34D-6A4FA51B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E9A5B-A1A5-44A0-A191-284B63C0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1DAF-1BC9-4543-9258-D1691835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305F0-C8F3-4CD7-AA5E-E9593709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14215D-0171-4AB1-BC40-35A7F4D0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820B07-8819-4016-8499-14CFDB01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B00154-8DDB-44AB-BEBC-54BFFFAB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6DFEDD-8B0E-4FDC-A342-45862600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E96AD6-0B60-4E80-BF81-63E586A2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885CB1-D42F-4EDA-A9F1-237D92A1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9E5A8-FDCB-44F3-8F2B-74FAA6A7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6BC66-5D81-42C2-94D9-A7778C6D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0DFCC-D3B6-4D3B-86EC-00644D8E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93AF-0FA2-4712-96BC-3D3DBA16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E350D-FD54-4A6F-9314-6FF32DA4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AE79D-8B38-4380-A3A5-230E8CF6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8F29E-973E-4AFC-B157-1A1EDD65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D0526-5AC6-48C5-920D-8649607F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F3233-FE41-4D95-9710-6BA5EC85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ECEB5-88C5-4DF8-B79A-8E75C709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D654F-3221-4F5B-AC6A-C1AC1FCF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7AECF-3824-4246-B1D6-59028214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AAE85-C914-4884-BA16-BF5D88BC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F6EC14-425C-43DB-BFD8-5E28B6B7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318B-4C43-40FD-A60E-931F648A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88BE7D-9A97-4BE5-A64B-E386DB89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9BCDC0-74B7-45FC-BFF6-48234168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28CB72-C1BE-4D33-9D4D-18A057D0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5CD0C1-B9BE-456E-ACF2-D25570A4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C935A5-E015-4C9C-AEB9-505C295D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ADE915-25A0-43F8-A12B-298651A5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05C94E-6624-43B2-80C8-55E3ED89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50932C-000D-42D6-BE54-F139A426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8D895C-B5AF-4CEA-9C92-F73051DA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BEA29B-D412-4B50-8A72-A1DAABAB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C993-8B56-4C5F-ADF2-F2BECBF3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8456B8-664A-4AA0-AECF-531B952F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9A2B5-73A8-48C0-B466-845B2FB0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0E6D0-3821-4B82-A636-A50823D0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DA279-E7EF-4F52-AFFB-2C996FBB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4237E-56BE-4DFC-AE67-0800CDF0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2672D-F341-43F3-8773-DEDD6610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E68AB-9F02-433C-BAC6-98A63DF5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4A736-2938-49D7-8F39-298668C9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6C6AA-9F3A-41E7-911C-8BCDD6F6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50B8F-6BDD-41EC-86BB-B3D4132D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A89D-E45E-4AA0-857F-7C55DAE7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0B415-FD6D-4EC0-9A71-1C4EA555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ECE13-8D17-4910-A496-A8186AF2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C408D-AC60-4719-A00A-88A09ACCA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9253-192A-46AE-8E58-606A075C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D688-4F35-4503-A9CE-8E0F7D4A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22B0-1D83-4CD4-96F5-6E226D48AC7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2BC5-96EF-46AF-A580-744DC48B97E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5EBB-9C10-4534-A967-E9866C6705C0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11D6-C185-481B-8DEB-E05C0B3BF640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4E31-F6D9-423F-B4D5-BF021B7B31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3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3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9812-86A2-4C0A-A138-C46CA233BF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6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Russian Revolu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March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volu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580920" y="1295280"/>
            <a:ext cx="5410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igins: Duma disobeys Tsar’s orders to dissolve and form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Provisional Government (democratic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run Rus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kers Council (labor union) or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Petrograd Sovie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ok control over city and arrested tsar’s minist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sar abdicated on March 1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or brother Michael (not son Alexis who had hemophilia and was weak) when brother abdicated a day later with no successor – chaos. Romanov dynasty ends. Family under arre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2810160" cy="487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viet Political Ideolo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re radical and revolutionary than the Provisional Gover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influenced by Marxist social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ulated western social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wo F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-- “Mensheviks” (wanted a democratic gov’t with socialist part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-- “Bolsheviks” (wanted dictatorship w/no parties except socialis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083120" cy="26989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4267080" y="5334120"/>
            <a:ext cx="533520" cy="6094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t’s Re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communis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id Karl Marx in 1848 see as the proble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id Marx want as the solutio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 the terms proletariat and bourgeois mean in regards to communis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actice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ch is generally a characteristic of a communist economy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estment is encouraged by the promise of large profi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ole of government in the economy is restricted by law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 agencies are involved in production plann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repreneurs sell shares in their companies to the govern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view of Marxism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munist Manifesto 1848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social classes – proletariat (working class in factories) and bourgeoisie (capitalist factory own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urgeoisie make a profit off of hard work of proletari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letariat must unite and overthrow bourgeois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volution will lead to a classless socie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wards production in hands of sta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llenge Question 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1917 victory of the communists in Russia was a contradiction of Marxist theory because Russia wa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ready ruled by a socialist govern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olved in World War 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ly an agricultural socie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considered to be a military pow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under of Bolshevism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Vladimir Leni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rother executed for assassination plot against Ts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nin - Exiled to Siberia in 189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turned to Russia by Germans to undermine Russia in w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logans - “Peace, Land, Bread” and “Religion is the opiate of the masses”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anti-Religion - Marx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lshevik party membership exploded within the large urban workforce (proletaria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321624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actice Question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ch slogan expressed the ideals of the Bolshevik Revolution of 1917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berty, Equality, and Fratern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ead, Land, and Pe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d and Liber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onalism, Democracy, and the People’s Livelihoo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November or “Bolshevik” Revolu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190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lsheviks led by Trotsky and Lenin invaded Provisional Government on Nov. 6 191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ll private property of wealthy was abolished and divided among the peasant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Largest industrial enterprises nationaliz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litical Police organized: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HEK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will become later KBG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volutionary army created with Trotsky in char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- 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Red Arm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lshevik Party renamed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ommunist Part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 March of 191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. Petersburg (after Romanov Tzar – Peter the Great) renamed Petrogr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343400" cy="29019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8610480" y="2438280"/>
            <a:ext cx="533520" cy="6098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4495680"/>
            <a:ext cx="533520" cy="6098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actice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ussian peasants supported the Bolsheviks in the 1917 Revolutions mainly because the Bolsheviks promised to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 collective farm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ntain the agricultural price-support syste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ng modern technology to Russian farm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istribute the land owned by the nob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ig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Know – What were the long-term and immediate causes of the Russian Revolu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ig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Know – What were the results of the Bolshevik Revolu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Ponder – how successful were the results of the Bolshevik revolution in solving the economic and political problems that were facing Russia in 1917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sults of Revolu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nge in Government – absolute monarchy to communist 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vil War erup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ssia leaves WW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conomic Devas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ltural Collap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ivil War – Reds vs. Whit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(1918-1921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Bolshevik) Army – supported by workers and Russian Army (peasant conscription – 5 million by 1921 – death penalty to deserters); controlled key cities, industries, and railroa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Whit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anti-Bolshevik) forces – supported by liberals, Tsarists, religious, moderate socialists; supported by Allied powers – especially Churchill; poor communication and spread out; Cossacks persecuted Jewish pop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ee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anarchists) – supported by peasants, military deser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219320" y="5410080"/>
            <a:ext cx="66294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reaty of Brest Litov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8991720" cy="6034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estions to Discu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w did the Russian people feel about the Treaty of Brest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itovs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fter the Allied Powers win the war with Germany, should Russia have been given back its territory?  Why?  Why No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Economic Problems in Factor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orker’s committees incapable of running factories – often voted themselves pay rises &amp; stole goo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Industrial output shrank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, esp. consumer goods leading to price inflat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All industry nationalis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and managed by sta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New laws on labour discipli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, e.g. fines for lateness &amp; absenteei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orking class &amp; army members given priority over r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"/>
          <p:cNvSpPr/>
          <p:nvPr/>
        </p:nvSpPr>
        <p:spPr>
          <a:xfrm>
            <a:off x="7467480" y="3657600"/>
            <a:ext cx="685800" cy="60948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actice Ques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ue/False.  The redistribution of land and the nationalism (state-run) of industry was economically successful for Rus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Farmers &amp; peasa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Food prices increased, bread shortag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– Feb 1918 bread ration in Petrograd reached 50 grams per person per d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809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Many peasants stop planting seed in protest, agricultural production fell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800600" y="3886200"/>
            <a:ext cx="4038480" cy="25891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4800600" y="3776760"/>
            <a:ext cx="4038480" cy="28526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447920" y="5791320"/>
            <a:ext cx="3581280" cy="761760"/>
          </a:xfrm>
          <a:prstGeom prst="rightArrow">
            <a:avLst>
              <a:gd name="adj1" fmla="val 50000"/>
              <a:gd name="adj2" fmla="val 117533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Tahoma"/>
              </a:rPr>
              <a:t>Secret hoard of food fou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0880" y="5791320"/>
            <a:ext cx="609840" cy="76176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ed Terr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514"/>
                </a:solidFill>
                <a:latin typeface="Arial"/>
              </a:rPr>
              <a:t>Chief instrument =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eka</a:t>
            </a:r>
            <a:r>
              <a:rPr b="0" lang="en-GB" sz="2400" spc="-1" strike="noStrike">
                <a:solidFill>
                  <a:srgbClr val="000514"/>
                </a:solidFill>
                <a:latin typeface="Arial"/>
              </a:rPr>
              <a:t> (renamed GPU in 1922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wers of arrest, detention and tort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514"/>
                </a:solidFill>
                <a:latin typeface="Arial"/>
              </a:rPr>
              <a:t>1918-20 13,000 prisoners executed (official records) – unofficial records 300,00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ssian Orthodox Church leaders executed</a:t>
            </a:r>
            <a:r>
              <a:rPr b="0" lang="en-GB" sz="2400" spc="-1" strike="noStrike">
                <a:solidFill>
                  <a:srgbClr val="000514"/>
                </a:solidFill>
                <a:latin typeface="Arial"/>
              </a:rPr>
              <a:t>; 1000s priests imprison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514"/>
                </a:solidFill>
                <a:latin typeface="Arial"/>
              </a:rPr>
              <a:t>1922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riters &amp; scholars depor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us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effective – Autocratic Ruler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litary Fail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conomic Hardshi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olutionary In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actice Ques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action taken by both V.I. Lenin and Joseph Stalin wa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tempting to bring democracy to Russi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iling or murdering potential opponen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pporting the Russian Orthodox Churc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ding economic aid to Japan after World War I and World War I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Tsar &amp; his famil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17 July 1918 Tsar &amp; family shot despite fears of antagonising Germany (Tsar cousin of Kaiser, Tsarina was Germa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5151600" y="1668600"/>
            <a:ext cx="3030480" cy="20476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5867280" y="4495680"/>
            <a:ext cx="1667160" cy="19432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7620120" y="54864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Anasta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876920" y="37339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Room in which the family were killed (even family dog kill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838080" y="3886200"/>
            <a:ext cx="3581640" cy="245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inal Question to Pond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s the new government established by Lenin, Trotsky, and later Stalin more, less or similarly as autocratic/successful as that under Czar Nichola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effective Rul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47960" y="1447560"/>
            <a:ext cx="41907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Only true autocracy left in Europ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especially after assassination of Alexander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type of representative political institutions –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Dum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reated by Alexander II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arely given right to assembl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cholas II became Tsar in 1884; Believed he was the absolute ruler anointed by G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67056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effective Rule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cholas was personally a very weak man – left the control of his country in the hands of his private guar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sar became increasingly remote as a rul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fe, Alexandra, even more blindly committed to autocracy than her husb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e was under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nfluence of mystic, Rasput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try to solve her son’s hemophil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248280" cy="48769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3382920" cy="518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Collapse of the Imperial Governmen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832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cholas leaves for the Front—September, 191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exandra and Rasputin and other high government officials accused of trea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sputin assassinated in December of 1916 by supporters of Tsar who thought Rasputin was bad for the Tsar's reput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3041640" cy="41148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4097160" cy="43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ilitary Failu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2895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imean War – 185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sso-Japanese War – 19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nnenberg Forest – 1914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W I – 5 million men killed, poorly supplied, average peasant did not see reason for being in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572000" y="228600"/>
            <a:ext cx="4343400" cy="288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actice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ch situation resulted from the Russo-Japanese War of 1905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pan lost its status as a world pow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Japanese Emperor encouraged reforms in Russ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sident groups challenged the power of the Russian Cz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ssia gained control of China and Japa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conomic Fail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Bloody Sunda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(1905)– workers peacefully protested at Tsar's winter palace due to bread shortages – Tsar's guards killed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March 1917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Women begin a march on International Women’s Day in St. Petersburg shouting “Peace &amp; Bread” –hundred of thousands of workers join in 3 day strik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Protests wartime misery, working conditions in early industrial factories, incomplete rural reform and unresponsive political respon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sar tells military to disperse crowds – they refuse and 80,000 join in the crowd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3:09:27Z</dcterms:created>
  <dc:creator> </dc:creator>
  <dc:description/>
  <dc:language>en-US</dc:language>
  <cp:lastModifiedBy>teacher</cp:lastModifiedBy>
  <dcterms:modified xsi:type="dcterms:W3CDTF">2012-01-12T13:43:19Z</dcterms:modified>
  <cp:revision>41</cp:revision>
  <dc:subject/>
  <dc:title>The Russian Revolution</dc:title>
</cp:coreProperties>
</file>